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2F7-9CB4-4AAD-9518-E44C93FB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213-0CDE-4D0C-805C-F04B2E9A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FC0-848F-4BF4-80CA-ACEF6255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DCB-00FD-4CB5-8ABD-DC392205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B044-51C1-4BBA-80C0-F0E47CC6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AD63-4293-408A-93F7-A88D9829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E6C-AAC1-4B4A-B3FB-9FA70C3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B2A4-5409-4C1A-90C8-96D62B6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7058-3AB3-42D3-87AE-3B68F00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DF1-8541-4A50-AF06-51CDA6DB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E750-195C-4EFE-BB57-F745562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75E-67C8-4495-A2B4-0D390DE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7DCA-BDD7-4E6B-A9EA-94C8DC0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4A5-C53D-4156-A46F-15989E81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DF16-5389-44EF-A6A3-1F400AA9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5694-C9F4-465F-B314-33A80C14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7DC5-ECE0-4FCE-9E25-76BE5545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B84-8D94-4EFB-9ABA-9D602B3F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ECA-0FAE-40C4-BD74-36562C0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C3F-CAF1-449A-AA43-8B569AFB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6A4-0E26-4673-B8D5-4EEEE7F5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BFE-A015-40DE-85F4-21A8A8EA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F31-FB3E-4116-9CF1-7D7F9F0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9F8-37A0-49C6-A1DB-804757A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C9E-763C-419B-A08C-AB7C051ABA37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CA04-54B4-49AC-8F7C-673EF9CB06A0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proul.wikispaces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elcome to Miss Sproul’s Algebra Clas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2010-2011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ell us one interesting thing about yourself! Be Appropriat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on Tim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Prepare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Respectful and Courteo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llow all School Ru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Food or Drin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vatory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ay in Seats at All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issed Work when Absen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sproul.wikispaces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enda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orkshee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e me or e-mail m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 5 times a wee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4 poin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 late home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uppl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lgebra Textboo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ring Bind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tebook Pap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encil/Eras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culator -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xas Instruments TI-30XII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nline Textboo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y.hrw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tudy Island/Laptop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ww.studyisland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2:16:51Z</dcterms:created>
  <dc:creator>Parkland High School</dc:creator>
  <dc:description/>
  <dc:language>en-US</dc:language>
  <cp:lastModifiedBy>Parkland High School</cp:lastModifiedBy>
  <dcterms:modified xsi:type="dcterms:W3CDTF">2010-09-07T16:58:23Z</dcterms:modified>
  <cp:revision>3</cp:revision>
  <dc:subject/>
  <dc:title>Welcome to Miss Sproul’s Algebra Class!</dc:title>
</cp:coreProperties>
</file>